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E6BB-0E3A-4805-BEFC-F87C45E809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2405-8CC9-49B6-B3ED-8482A4754F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4458-D6A7-48BE-9B7D-25F8D337EB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120920"/>
            <a:ext cx="822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263664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12092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400" y="412092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264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50800" y="2636640"/>
            <a:ext cx="264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3240" y="2636640"/>
            <a:ext cx="264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120920"/>
            <a:ext cx="264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50800" y="4120920"/>
            <a:ext cx="264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3240" y="4120920"/>
            <a:ext cx="264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263664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40158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400" y="2636640"/>
            <a:ext cx="40158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400" y="2636640"/>
            <a:ext cx="40158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412092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263664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40158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263664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5400" y="412092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263664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4120920"/>
            <a:ext cx="822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4120920"/>
            <a:ext cx="822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400" y="263664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412092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5400" y="412092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264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50800" y="2636640"/>
            <a:ext cx="264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3240" y="2636640"/>
            <a:ext cx="264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4120920"/>
            <a:ext cx="264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50800" y="4120920"/>
            <a:ext cx="264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3240" y="4120920"/>
            <a:ext cx="264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40158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400" y="2636640"/>
            <a:ext cx="40158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636640"/>
            <a:ext cx="40158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12092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40158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263664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400" y="412092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2636640"/>
            <a:ext cx="40158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120920"/>
            <a:ext cx="8229600" cy="135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powerpointinsideal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263664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0043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35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  <a:p>
            <a:pPr lvl="1" marL="505080" indent="-1940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35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  <a:p>
            <a:pPr lvl="2" marL="777240" indent="-15516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35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  <a:p>
            <a:pPr lvl="3" marL="1087920" indent="-155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35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  <a:p>
            <a:pPr lvl="4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35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  <a:p>
            <a:pPr lvl="5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35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  <a:p>
            <a:pPr lvl="6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35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  <p:sp>
        <p:nvSpPr>
          <p:cNvPr id="3" name="Text Box 14"/>
          <p:cNvSpPr/>
          <p:nvPr/>
        </p:nvSpPr>
        <p:spPr>
          <a:xfrm>
            <a:off x="7667640" y="6491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5C59-836B-438C-AF98-1C107278219F}" type="slidenum">
              <a:rPr b="0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powerpointfro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3"/>
          <p:cNvSpPr/>
          <p:nvPr/>
        </p:nvSpPr>
        <p:spPr>
          <a:xfrm>
            <a:off x="685800" y="2349360"/>
            <a:ext cx="77724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371600" y="4627440"/>
            <a:ext cx="6400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263664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0043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35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  <a:p>
            <a:pPr lvl="1" marL="505080" indent="-1940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35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  <a:p>
            <a:pPr lvl="2" marL="777240" indent="-15516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35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  <a:p>
            <a:pPr lvl="3" marL="1087920" indent="-155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35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  <a:p>
            <a:pPr lvl="4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35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  <a:p>
            <a:pPr lvl="5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35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  <a:p>
            <a:pPr lvl="6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35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9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4d4d4d"/>
                </a:solidFill>
                <a:latin typeface="Verdana"/>
              </a:rPr>
              <a:t>Code Governance Review:</a:t>
            </a:r>
            <a:br>
              <a:rPr sz="4000"/>
            </a:br>
            <a:r>
              <a:rPr b="1" lang="en-GB" sz="4000" spc="-1" strike="noStrike">
                <a:solidFill>
                  <a:srgbClr val="4d4d4d"/>
                </a:solidFill>
                <a:latin typeface="Verdana"/>
              </a:rPr>
              <a:t>follow up</a:t>
            </a:r>
            <a:endParaRPr b="1" lang="en-US" sz="4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Verdana"/>
              </a:rPr>
              <a:t>Background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06064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43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359"/>
                </a:solidFill>
                <a:latin typeface="Verdana"/>
              </a:rPr>
              <a:t>CGR implementation PID included the following deliverable</a:t>
            </a:r>
            <a:endParaRPr b="0" lang="en-US" sz="1800" spc="-1" strike="noStrike">
              <a:solidFill>
                <a:srgbClr val="004359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achieve a demonstrable cultural shift within the organisation to ensure Ofgem’s proactive and constructive participation in the industry change management process”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43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359"/>
                </a:solidFill>
                <a:latin typeface="Verdana"/>
              </a:rPr>
              <a:t>We considered that a survey would be helpful to capture industry parties current (pre-CGR) views</a:t>
            </a:r>
            <a:endParaRPr b="0" lang="en-US" sz="1800" spc="-1" strike="noStrike">
              <a:solidFill>
                <a:srgbClr val="004359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25 responses received, covering large and small parties, and code administra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43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359"/>
                </a:solidFill>
                <a:latin typeface="Verdana"/>
              </a:rPr>
              <a:t>Comments generally in line with expectation – perceived weaknesses are being addressed through the ‘cultural shift’</a:t>
            </a:r>
            <a:endParaRPr b="0" lang="en-US" sz="18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Verdana"/>
              </a:rPr>
              <a:t>Results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228600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35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359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0920" y="1773360"/>
          <a:ext cx="8642160" cy="4641840"/>
        </p:xfrm>
        <a:graphic>
          <a:graphicData uri="http://schemas.openxmlformats.org/drawingml/2006/table">
            <a:tbl>
              <a:tblPr/>
              <a:tblGrid>
                <a:gridCol w="5689440"/>
                <a:gridCol w="1295640"/>
                <a:gridCol w="1657080"/>
              </a:tblGrid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ree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agree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9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 publish sufficient information on modification deci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ision letters are clear and inform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resentatives at modification workgroups are knowledgeable and well brief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resentatives at modification workgroups are helpful and add value to discu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resentatives at Code Panels are knowledgeable and well brief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resentatives at Code Panels are helpful and add value to discu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keholders are kept well informed of when a modification decision is expec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ndicative modification timetable published on Ofgem’s website is usef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time generally taken to make a modification decision is appropri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pondents satisfied overall with Ofgem's role in the modification pro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Verdana"/>
              </a:rPr>
              <a:t>Further breakdown, by question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8000" y="1773360"/>
            <a:ext cx="7343640" cy="4032000"/>
          </a:xfrm>
          <a:prstGeom prst="rect">
            <a:avLst/>
          </a:prstGeom>
          <a:ln w="0">
            <a:noFill/>
          </a:ln>
        </p:spPr>
      </p:pic>
      <p:pic>
        <p:nvPicPr>
          <p:cNvPr id="96" name="Chart 3" descr=""/>
          <p:cNvPicPr/>
          <p:nvPr/>
        </p:nvPicPr>
        <p:blipFill>
          <a:blip r:embed="rId2"/>
          <a:stretch/>
        </p:blipFill>
        <p:spPr>
          <a:xfrm>
            <a:off x="463680" y="1700280"/>
            <a:ext cx="799776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Verdana"/>
              </a:rPr>
              <a:t>Key messages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84464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43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359"/>
                </a:solidFill>
                <a:latin typeface="Verdana"/>
              </a:rPr>
              <a:t>The value the Ofgem representative adds to the process varies code to code and dependent upon the individual</a:t>
            </a:r>
            <a:endParaRPr b="0" lang="en-US" sz="1800" spc="-1" strike="noStrike">
              <a:solidFill>
                <a:srgbClr val="004359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Desire for greater consistency and assertiven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43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359"/>
                </a:solidFill>
                <a:latin typeface="Verdana"/>
              </a:rPr>
              <a:t>Response times for both decisions and actions often too long, with little transparency on what is happening</a:t>
            </a:r>
            <a:endParaRPr b="0" lang="en-US" sz="1800" spc="-1" strike="noStrike">
              <a:solidFill>
                <a:srgbClr val="004359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More proportionate approach nee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alls for greater visibility of internal pro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43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359"/>
                </a:solidFill>
                <a:latin typeface="Verdana"/>
              </a:rPr>
              <a:t>Quality of decisions generally good, but let down on specific – often key – decisions</a:t>
            </a:r>
            <a:endParaRPr b="0" lang="en-US" sz="1800" spc="-1" strike="noStrike">
              <a:solidFill>
                <a:srgbClr val="00435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43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359"/>
                </a:solidFill>
                <a:latin typeface="Verdana"/>
              </a:rPr>
              <a:t>Need to improve technical knowledge</a:t>
            </a:r>
            <a:endParaRPr b="0" lang="en-US" sz="1800" spc="-1" strike="noStrike">
              <a:solidFill>
                <a:srgbClr val="00435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43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3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0:06:09Z</dcterms:created>
  <dc:creator>Richard Hall</dc:creator>
  <dc:description/>
  <dc:language>en-US</dc:language>
  <cp:lastModifiedBy>Tim Davis</cp:lastModifiedBy>
  <dcterms:modified xsi:type="dcterms:W3CDTF">2011-04-22T08:23:15Z</dcterms:modified>
  <cp:revision>130</cp:revision>
  <dc:subject>Summary of responses to ICL surveycode governance</dc:subject>
  <dc:title>ICL survey resul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Presentation</vt:lpwstr>
  </property>
  <property fmtid="{D5CDD505-2E9C-101B-9397-08002B2CF9AE}" pid="3" name="ContentTypeId">
    <vt:lpwstr>0x010100B1FDB44E637B184D819A660F8226561600824CE3C7756B5F4B9E69DD9B13222ABC</vt:lpwstr>
  </property>
</Properties>
</file>